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5EEA-69DB-4181-B0BB-CD7B1070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2D2E-55DC-419D-AE61-B735096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EE8F-5C6F-444E-935F-E6579291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7CC5-CA01-4BB3-BFC5-600F40FC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C258-4460-4EBD-B6FE-E67FFAEE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EE0-AC65-4A15-A4DA-2FD2F7C9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AED-BF52-40C2-BBB5-2F7D355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92EF-4926-4D6B-B665-EA0473F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3756-C99D-4DC2-AEC4-049C78EE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5A5E-7C3D-4394-BDF9-54E7248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0C73-6EEA-44A6-B7BC-501FBFB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EAA0-E626-4044-A83B-7814FBAF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D5B-2866-4BD7-BBFA-EEDCA9B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4297-1F7E-4B3C-BFDE-33181FB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956A-860E-4AB9-AFEE-732F7A92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2419-4071-413B-B098-D018C04A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06AA-F4FF-4C2E-A50D-01F0E746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FB83-217F-4947-A50C-3BC6075C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2173-9F21-47B8-8807-918DB87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F7EE-F7A0-40B6-8BF9-A976A9DD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D6CC-66B1-4E5E-ABB4-B74DF22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D32F-C45F-421B-8809-633D589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A10C-9548-45C7-9BE6-2742475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43E2-7704-403B-B4A8-C83A40EC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662A-964A-4ECF-9E03-1F227456DC5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100-1B3E-4897-AB0F-3B7CA12E6CB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6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05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най-блажена ду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радост и възтор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нежност що изрич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лик и славен Бо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мрак и във съмнен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ред земний шум и в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чувам глас божеств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ласа на Бога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О, ела при Мен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, обремене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ела пр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Съблазни, изкуш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граждат мене, кле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вличат и примамв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пътя Божи свя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газ Исус ме вик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ине Мой 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ла спасен да бъде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ла, ела при Мен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О, ела при Мен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, обремене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ела пр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тел мой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ечно ме паз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мир Си на душа м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щита от враз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сякога води 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град, и във сел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щом съм в опаснос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шепни ми пак: „Ела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О, ела при Мен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, обременени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ела пр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6:09Z</dcterms:modified>
  <cp:revision>196</cp:revision>
  <dc:subject/>
  <dc:title>Slide 1</dc:title>
</cp:coreProperties>
</file>